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422-A072-4AA7-87B4-25DABB89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43F-4A9A-4125-9712-CAD30A7A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A33-982A-4032-B190-76035589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77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75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79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77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75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85E-33E2-454E-ACF3-67F14674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A749-8EA1-41C9-AEC8-F07C2D29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8D35-54A1-4276-A9B3-7AF7C549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ED41-C7E0-4B56-83EF-3A3E09DE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4E7A-0736-460A-BF7E-C7E9AC77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0207-5F19-4C6A-9995-BA52C421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07960" y="355680"/>
            <a:ext cx="8043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DAF3-5AC6-40D0-967E-B9597B46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AD92-0B3C-4564-B5B9-BFB262FE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A02-075C-477B-9279-66E21B3B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65EE-6D49-4B2A-89CA-D2F4C322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44D8-8FBE-414B-8149-69EDFA8B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C24F-99D8-4F66-873D-82429F56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E86B-F583-48AF-AA2A-EA60594F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277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75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79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277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75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E148-64FB-4C35-B37F-8367A022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F6F8C-AC31-4CEC-A172-A916D0BD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CE05-B042-4A8D-976B-7CBBE4CF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0C46-8EA0-4D6C-BA20-10CE0AE2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E9E5F-9CEA-43A6-B6D7-A2028BB5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E732-2B8A-4D5A-95AD-884453E8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4ED-0CBD-4965-A90D-28DD37C2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7960" y="355680"/>
            <a:ext cx="8043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ADE8-8C4D-4AE5-92A7-90CBB540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9F97-F97E-4617-8FCC-9D1EA534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0272F-F396-4D0C-BEF8-D9276515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4565D-B198-422B-BBF0-8EA40125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E0985-BDC1-4D67-9F81-77CEC718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74B8-13B1-4C04-A560-BB116F04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277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75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79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277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75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354E1-78EA-4D44-BAB8-D9EDE7CD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E6CF9-6B65-44DD-92C7-868CA538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4EA3F-71BA-4E44-8282-4DF860FF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B8B9F-71E8-471B-8F78-5C3A9FBF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57E-ED45-4BD3-B6F2-F50A2D00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307BD-92C5-430F-90AC-E18D684B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973B6-CFE4-4DC6-86C4-BF02940E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7960" y="355680"/>
            <a:ext cx="8043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33C67-E0F8-4340-BCCF-87F2665F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F5C88-21DA-46F2-99F8-DF95D37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F6F04-3BC7-42C9-9DC3-4D444A2A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87152-D644-4CD2-B34E-57F1DD11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7F7E2-DEF9-4E81-8A8D-8B964FBD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4BE1-1E91-48B5-A22E-58E27541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77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75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79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77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75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ED390-CAE2-42C0-A59B-198E67DA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35082-3ADA-4D87-8ACD-2DA99AA2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EFF-4653-4EFF-9996-0B0CDEC4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9CB04-5BE7-4B08-8377-FCDCD451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CED9-A362-478D-A35F-C31F1688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2856D-5DEB-4912-B783-13DA157B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255D6-EED1-4818-BE6A-2095A9C6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7960" y="355680"/>
            <a:ext cx="8043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70645-B911-4880-BF7C-B56B5A11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A2306-3D96-4ADF-ABA9-1C705DF2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4470E-E394-49AD-9E56-5598C86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33700-D2C1-4B4F-AC67-C49C9F93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EA5E3-67CF-4B63-AFCB-C20BF572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A3FDD-8747-4CFE-A989-B5F58BC2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7960" y="355680"/>
            <a:ext cx="8043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736-9429-4C98-8588-9D59A7F9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77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7560" y="178740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79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77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7560" y="4600080"/>
            <a:ext cx="2589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1D6C3-8BF0-4B04-AABB-5D2E4041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5BA-DEB1-4405-A764-835CC902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9600" y="460008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6D5-E008-49E5-94C7-9032AF2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96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787400"/>
            <a:ext cx="392508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960" y="4600080"/>
            <a:ext cx="8043840" cy="2568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84F-DBA7-43A5-A960-CFA1E418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9051840" y="-6480"/>
            <a:ext cx="1116000" cy="7632720"/>
            <a:chOff x="9051840" y="-6480"/>
            <a:chExt cx="1116000" cy="763272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9051840" y="-6480"/>
              <a:ext cx="1116000" cy="76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059760" y="0"/>
              <a:ext cx="1100160" cy="76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43120" indent="-2527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160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20920" indent="-25236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18160" y="7286400"/>
            <a:ext cx="2224080" cy="25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07600" y="7286400"/>
            <a:ext cx="4064040" cy="253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45480" y="7284960"/>
            <a:ext cx="65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2897-AFD3-4C3D-AF5C-EE107BC97BFC}" type="slidenum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955960" y="-6480"/>
            <a:ext cx="7211880" cy="7632720"/>
            <a:chOff x="2955960" y="-6480"/>
            <a:chExt cx="7211880" cy="763272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955960" y="-6480"/>
              <a:ext cx="7211880" cy="76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963880" y="0"/>
              <a:ext cx="7196040" cy="76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963880" y="-360"/>
            <a:ext cx="0" cy="762012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43120" indent="-2527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160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20920" indent="-25236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523200" y="7286400"/>
            <a:ext cx="2225520" cy="25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32000" y="7286400"/>
            <a:ext cx="3252960" cy="253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56280" y="7284960"/>
            <a:ext cx="654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378D-A060-49FA-83E7-7D34CEC604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9051840" y="-6480"/>
            <a:ext cx="1116000" cy="7632720"/>
            <a:chOff x="9051840" y="-6480"/>
            <a:chExt cx="1116000" cy="763272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9051840" y="-6480"/>
              <a:ext cx="1116000" cy="76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9059760" y="0"/>
              <a:ext cx="1100160" cy="76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43120" indent="-2527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160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20920" indent="-25236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249880" y="7284600"/>
            <a:ext cx="2224080" cy="25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928880" y="7284960"/>
            <a:ext cx="3216240" cy="25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481520" y="7283160"/>
            <a:ext cx="65412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A27C-ACD1-4BAF-B71A-FAA61AA2EC95}" type="slidenum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665280" y="1115640"/>
            <a:ext cx="4798800" cy="479268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663480" y="1109520"/>
            <a:ext cx="4799160" cy="479268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63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2" marL="843120" indent="-2527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3" marL="11160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4" marL="1420920" indent="-25236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5" marL="1420920" indent="-25236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  <a:p>
            <a:pPr lvl="6" marL="1420920" indent="-252360">
              <a:spcBef>
                <a:spcPts val="663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718160" y="7286400"/>
            <a:ext cx="2224080" cy="25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507600" y="7286400"/>
            <a:ext cx="4064040" cy="253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945480" y="7284960"/>
            <a:ext cx="6537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09BE-339F-4DD1-9990-1CC6675FEEA0}" type="slidenum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9051840" y="-6480"/>
            <a:ext cx="1116000" cy="7632720"/>
            <a:chOff x="9051840" y="-6480"/>
            <a:chExt cx="1116000" cy="763272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9051840" y="-6480"/>
              <a:ext cx="1116000" cy="76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059760" y="0"/>
              <a:ext cx="1100160" cy="76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55680"/>
            <a:ext cx="8043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7960" y="1787400"/>
            <a:ext cx="8043840" cy="538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03120" indent="-303120">
              <a:spcBef>
                <a:spcPts val="66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778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2" marL="843120" indent="-252720">
              <a:spcBef>
                <a:spcPts val="663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3" marL="1116000" indent="-252360">
              <a:spcBef>
                <a:spcPts val="663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4" marL="1420920" indent="-252360">
              <a:spcBef>
                <a:spcPts val="663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5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6" marL="1420920" indent="-252360">
              <a:spcBef>
                <a:spcPts val="663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714920" y="7286400"/>
            <a:ext cx="2224080" cy="25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07600" y="7284960"/>
            <a:ext cx="4064040" cy="254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950160" y="7281720"/>
            <a:ext cx="652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B45E-E43C-4857-AC7F-C19E7E2E9CA7}" type="slidenum"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1" descr=""/>
          <p:cNvPicPr/>
          <p:nvPr/>
        </p:nvPicPr>
        <p:blipFill>
          <a:blip r:embed="rId1"/>
          <a:stretch/>
        </p:blipFill>
        <p:spPr>
          <a:xfrm>
            <a:off x="950760" y="1139760"/>
            <a:ext cx="8912520" cy="15066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241880" y="3809880"/>
            <a:ext cx="4806720" cy="14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king causes cance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mart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Star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753000" y="6996240"/>
            <a:ext cx="6406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lsey L, Courtni C, Amy Y, Neel 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247320" y="1828800"/>
            <a:ext cx="8566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2007 (the most recent number available), 158,683 people in the US died from lung cancer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6" name="Picture 5" descr="http://www.cdc.gov/nchs/images/atlas/lcwm.gif"/>
          <p:cNvPicPr/>
          <p:nvPr/>
        </p:nvPicPr>
        <p:blipFill>
          <a:blip r:embed="rId2"/>
          <a:stretch/>
        </p:blipFill>
        <p:spPr>
          <a:xfrm>
            <a:off x="1270080" y="2819520"/>
            <a:ext cx="6629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47680" y="1828800"/>
            <a:ext cx="86421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400,000 lung cancer survivors live in the US, but still, fewer lung cancer survive then prostate and breast cancer patients.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9" name="Picture 5" descr="http://www.glogster.com/media/5/32/92/48/32924861.gif"/>
          <p:cNvPicPr/>
          <p:nvPr/>
        </p:nvPicPr>
        <p:blipFill>
          <a:blip r:embed="rId2"/>
          <a:stretch/>
        </p:blipFill>
        <p:spPr>
          <a:xfrm>
            <a:off x="5460840" y="4038480"/>
            <a:ext cx="342900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79360" y="914400"/>
            <a:ext cx="876312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onson, Mary H.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lencoe Health, Student ed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S.l.: McGraw Hill/Glencoe, 2009. Pri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ion of Lung Cancer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Chemistry Dictiona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n.p., n.d. Web. 31 Aug. 2011. &lt;http://www.chemistry-dictionary.com/definition/lung+cancer.php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dridge, Lynne. “Early Symptoms of Lung Cancer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ung Canc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About.com, 2 Jan. 2010. Web. 31 Aug. 2011. &lt;http://lungcancer.about.com/od/whatislu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ancer/a/earlysymptoms.htm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icson, Kirk. “Emotional Effects Of Lung Cancer | LIVESTRONG.COM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IVESTRONG.CO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Livestrong, 18 Apr. 2010. Web. 2 Sept. 2011. &lt;http://www.livestrong.com/article/108201-emotional-effects-lung-cancer/#ixzz1WoRBP8Tu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cts about Lung Cancer 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nnie J. Addario Lung Cancer Found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The Bonnie J. Addario Lung Cancer Foundation, n.d. Web. 2 Sept. 2011. &lt;http://www.lungcancerfoundation.org/about-lung-cancer/fact-sheets/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it affects family and friends - Lung cancer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talkonline, an award-winning charity website, lets you share in patients, family and professional experiences of health and illness. : Healthtalkonlin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DIPEx, n.d. Web. 2 Sept. 2011. &lt;http://www.healthtalkonline.org/cancer/Lung_Cancer/Topic/1598/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xford University Press. “A Short History of Lung Cancer 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oxicological Sc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Society of Toxicology, n.d. Web. 31 Aug. 2011. &lt;http://toxsci.oxfordjourna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/content/64/1/4.full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chneider, Bryan J. “Management of Recurrent Small Cell Lung Cancer 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ournal of the National Comprehensive Cancer Network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National Comprehensive Cancer Network , 24 Sept. 2007. Web. 2 Sept. 2011. &lt;http://www.jnccn.org/content/6/3/323.abstract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an, Winston W. “Medscape: Medscape Access.”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dscape: Medscape Acce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WebMD LLC, 30 Aug. 2011. Web. 2 Sept. 2011. &lt;http://emedicine.medscape.com/article/279960-treatment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07960" indent="-50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st lethal type of tumor worldwide 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uses up to 3 million deaths worldwide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ading cause of deaths in the US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47320" y="1828800"/>
            <a:ext cx="9023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ung cancer occurrences increased throughout the 1900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d air pollution from: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dustrial gasses and dust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phalting of road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utomobile traffic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xposure to gas in WWI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7" name="Picture 5" descr="http://apworldhistorywiki.wikispaces.com/file/view/industrial-revolution.jpg/124671609/industrial-revolution.jpg"/>
          <p:cNvPicPr/>
          <p:nvPr/>
        </p:nvPicPr>
        <p:blipFill>
          <a:blip r:embed="rId2"/>
          <a:stretch/>
        </p:blipFill>
        <p:spPr>
          <a:xfrm>
            <a:off x="5232240" y="5029200"/>
            <a:ext cx="34322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http://www.beltina.org/pics/lung_cancer.jpg"/>
          <p:cNvPicPr/>
          <p:nvPr/>
        </p:nvPicPr>
        <p:blipFill>
          <a:blip r:embed="rId1"/>
          <a:stretch/>
        </p:blipFill>
        <p:spPr>
          <a:xfrm>
            <a:off x="4165560" y="3703680"/>
            <a:ext cx="4800600" cy="384012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1" descr=""/>
          <p:cNvPicPr/>
          <p:nvPr/>
        </p:nvPicPr>
        <p:blipFill>
          <a:blip r:embed="rId2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hereditary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sure to: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garette or secondhand smok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857160" indent="-342720">
              <a:lnSpc>
                <a:spcPct val="200000"/>
              </a:lnSpc>
              <a:buClr>
                <a:srgbClr val="00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besto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ghing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ness of breath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ezing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ghing up blood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 lvl="1" marL="457200" indent="-342720">
              <a:lnSpc>
                <a:spcPct val="2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arseness</a:t>
            </a:r>
            <a:endParaRPr b="0" lang="en-US" sz="2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not immedia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55680" y="1165320"/>
            <a:ext cx="9494640" cy="59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2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log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2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5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5" descr="http://www.spcancerologia.org/wp-content/uploads/2011/01/Cancer-Treatment.jpg"/>
          <p:cNvPicPr/>
          <p:nvPr/>
        </p:nvPicPr>
        <p:blipFill>
          <a:blip r:embed="rId2"/>
          <a:stretch/>
        </p:blipFill>
        <p:spPr>
          <a:xfrm>
            <a:off x="4622760" y="327672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47320" y="1661760"/>
            <a:ext cx="8489880" cy="61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ck and denial are frequently the first emotional responses after learning you have cancer.”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American Cancer Socie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s hesitant to tell family and frien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milies and friends might not know how to react at first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5" descr="http://pittsburghgives.org/files/2010/06/American-Cancer-Society.jpg"/>
          <p:cNvPicPr/>
          <p:nvPr/>
        </p:nvPicPr>
        <p:blipFill>
          <a:blip r:embed="rId2"/>
          <a:stretch/>
        </p:blipFill>
        <p:spPr>
          <a:xfrm>
            <a:off x="838080" y="3335400"/>
            <a:ext cx="29466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anagement and Impac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247680" y="1832040"/>
            <a:ext cx="87948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-Term Management: tumor reduction or single agent chemothera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-Term Management: most cannot be cured by currently available therap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1" descr=""/>
          <p:cNvPicPr/>
          <p:nvPr/>
        </p:nvPicPr>
        <p:blipFill>
          <a:blip r:embed="rId1"/>
          <a:stretch/>
        </p:blipFill>
        <p:spPr>
          <a:xfrm>
            <a:off x="-85680" y="103320"/>
            <a:ext cx="10004400" cy="1122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247320" y="1828800"/>
            <a:ext cx="8413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 to 30% of all cancer deaths are caused by lung cancer</a:t>
            </a:r>
            <a:endParaRPr b="0" lang="en-US" sz="27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5" descr="http://www.smokinglung.org/wp-content/uploads/2010/10/Lung-Cancer.jpg"/>
          <p:cNvPicPr/>
          <p:nvPr/>
        </p:nvPicPr>
        <p:blipFill>
          <a:blip r:embed="rId2"/>
          <a:stretch/>
        </p:blipFill>
        <p:spPr>
          <a:xfrm>
            <a:off x="5232240" y="3200400"/>
            <a:ext cx="32245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114536</cp:lastModifiedBy>
  <dcterms:modified xsi:type="dcterms:W3CDTF">2011-09-02T17:28:07Z</dcterms:modified>
  <cp:revision>7</cp:revision>
  <dc:subject/>
  <dc:title>PowerPoint Presentation</dc:title>
</cp:coreProperties>
</file>